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8A7-97BF-45FA-A326-8D4C737F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48D-449D-4384-9B85-94B1E7D8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20F-EF24-4C9D-9A13-6FA4CAD1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E15-A5D9-4818-9881-8174A6C0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F261-24F4-4E1F-A3B9-7D6F504E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0C80-6A80-40DF-B212-16B56A08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1F54-7688-4716-BCA5-C935D09B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B95B-0FDE-4C1E-A9FF-E466C5C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5934-0672-49A0-A70E-ADF5A8D8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F3EE-9170-49AC-BBF5-BF48562A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2808-7735-48ED-941E-C0A0ED7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5D6-266C-4508-9B9A-7B9A5290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1FBD-F243-4188-86C7-0406531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186D-FC56-4467-85DF-0F78C91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0374-C93C-4621-995B-DDC46D58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BCF0-3FE0-41B6-ABEA-63F30F97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DC76-2E5B-4FCA-8634-A7964AC5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D2E-AB8E-47CC-A408-9461AEAD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84C-A4C1-4157-8F58-AF33821B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6BC-5BEC-41C7-AEA3-BD169A58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676-BEEE-4853-90B5-1E85ED9B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3AA-6534-4CDD-B98E-9ECBDC6A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996-F1D6-44E2-8A82-4EB9BE29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4C4-3DFC-4772-A93D-51A9C20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E6F2-D9FA-4AF2-B1A5-5A7CAA1861C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249E-E3B0-4EAA-8DC5-E2B84EFA37C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edritos-home.com/Logo_Cajasur_ok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4360" y="765000"/>
            <a:ext cx="81946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rganización y administrac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empres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904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1413000"/>
            <a:ext cx="6409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ble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actar las cuentas de forma correcta y fiable para evitar problemas con las auditorias externas y así reflejar la situación económica de la empresa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 Administración Contable y sobre los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Financiera e Interventor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484280"/>
            <a:ext cx="6985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e de los Programas de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r programas de formación para los nuevos integrante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Existen cursos, quién los impa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, existen cursos para complementar la formación de nuestros empleados en varias materias. Lo imparte profesionales externos a la empresa o empleados con un alto nivel de formación  preparados para transmitir sus cono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Jefe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484360" y="333360"/>
            <a:ext cx="48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D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133720"/>
            <a:ext cx="2087640" cy="792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149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501336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3141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2087640" cy="719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5761080" cy="18003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284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0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MISIÓN 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119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4000" y="404640"/>
            <a:ext cx="46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STORI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916280"/>
            <a:ext cx="72010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historia de Cajasur es relativamente reciente. Surje en 1995  de la fusión de Monte de Piedad y Caja de Ahorros de Córdoba, vinculada a la Iglesia Católica y la Caja Provincial de Ahorros de Córdoba, vinculada a la Diputación Provincial. Cajasur era un nombre con el cual venia operando el Monte de Piedad desde hacia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Monte de Piedad y Caja de Ahorros de Córdoba conocido a lo largo de la historia con diversos nombres como Monte de Piedad de Córdoba, como Monte de Piedad del Sr Medina o Caja de Ahorros de Córdoba, fue fundada por el Cabildo Catedrático de Córdoba, como Monte de Piedad, el 1 de septiembre de 1864. En la actualidad es la Iglesia Católica quien sigue controlando a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79280" y="476280"/>
            <a:ext cx="5762880" cy="5304960"/>
            <a:chOff x="179280" y="476280"/>
            <a:chExt cx="5762880" cy="5304960"/>
          </a:xfrm>
        </p:grpSpPr>
        <p:sp>
          <p:nvSpPr>
            <p:cNvPr id="104" name="Pyr1"/>
            <p:cNvSpPr/>
            <p:nvPr/>
          </p:nvSpPr>
          <p:spPr>
            <a:xfrm>
              <a:off x="2421720" y="476280"/>
              <a:ext cx="1291680" cy="1175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yr2"/>
            <p:cNvSpPr/>
            <p:nvPr/>
          </p:nvSpPr>
          <p:spPr>
            <a:xfrm>
              <a:off x="1673640" y="1652040"/>
              <a:ext cx="2780640" cy="1379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yr3"/>
            <p:cNvSpPr/>
            <p:nvPr/>
          </p:nvSpPr>
          <p:spPr>
            <a:xfrm>
              <a:off x="933840" y="3031560"/>
              <a:ext cx="4259880" cy="1377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yr4"/>
            <p:cNvSpPr/>
            <p:nvPr/>
          </p:nvSpPr>
          <p:spPr>
            <a:xfrm>
              <a:off x="179280" y="4402080"/>
              <a:ext cx="5762880" cy="1379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700360" y="1341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56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32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4941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41300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06064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70828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501336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860640"/>
            <a:ext cx="1079640" cy="144720"/>
          </a:xfrm>
          <a:prstGeom prst="rightArrow">
            <a:avLst>
              <a:gd name="adj1" fmla="val 50000"/>
              <a:gd name="adj2" fmla="val 18650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1125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119700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dada por el Cabildo Catedrático de Córdoba como Monte de P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184464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primeros Estatutos y Reglamentos por Reales Órde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24922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ituida formalmente por el mismo Cabildo Eclesiá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3068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Estatutos vigentes en la actu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3573360"/>
            <a:ext cx="273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usión del Monte de Piedad y Caja de Ahorros de Córdoba y de la Caja Provincial de Ahorros de Córdoba. Adopta el nombre comercial de Cajas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48690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enta con 3048 empleados y 485 oficinas repartidas en 15 provi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5499000" cy="3702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2133720"/>
            <a:ext cx="358560" cy="358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358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13372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852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no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476280"/>
            <a:ext cx="309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SIÓ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3640" y="47628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SIÓ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91628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isión de Cajasur es a través de una fundación, hermandad… etc sin animo de lucro, ayudar  a aquellos que lo necesiten tanto económicamente como socialmente, dando trabajo a aquellos que con dedicación y esfuerzo desean llevar a cabo una labor en una Caja de Ahorros como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184464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visión de Cajasur es abrir más oficinas en toda España y lograr sobrevivir a la situación económica que nos acontece saliendo airosos sin necesidad de cerrar oficinas ni dejando sin empleo a sus trabajadores. Da becas a estudiantes, ayuda a personas con discapacidad o en riesgo de exclusión social o subvencionando la conservación del patrimonio histórico-artístico y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981000"/>
            <a:ext cx="3743280" cy="1008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565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149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9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LA ESTRUCTURA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162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4869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557360"/>
            <a:ext cx="6192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a de Gestión Comercial y 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y controlar la productividad en la empresa para que resulte efi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el área de información comercial y el área de planificación comercial, y las personas que las integ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de Planificación Comercial y Marketing e indirectamente al Director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0:50:49Z</dcterms:created>
  <dc:creator>Lena Salas</dc:creator>
  <dc:description/>
  <dc:language>en-US</dc:language>
  <cp:lastModifiedBy>Familia</cp:lastModifiedBy>
  <dcterms:modified xsi:type="dcterms:W3CDTF">2009-05-15T17:15:25Z</dcterms:modified>
  <cp:revision>4</cp:revision>
  <dc:subject/>
  <dc:title>Diapositiva 1</dc:title>
</cp:coreProperties>
</file>